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A8BD-C1B3-44D9-A678-9438F49B3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E96-642C-461B-A7A6-ED2BB9A1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63F-DEDC-4233-AD56-1BA666EF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753-7663-48A3-822D-73D40A7E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C62-A9AA-46A8-BD16-41C3F2FF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C80-E25C-4856-8845-9C7B7C3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6EDB-C6D8-40C2-B3C4-E6E9F4E2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BB9-E7CE-4A23-8FB0-5C465412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BFC-A31F-4945-91CC-9135FA7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5230-64DA-4B8F-A37B-8C0CD36D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BEC-D7DC-46BB-AF97-D48AC944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C1A-A056-4E20-B4B9-4766B032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05B9-B60D-4DA0-8526-ED0D8184B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egonlive.com/portland/index.ssf/2010/08/multnomah_county_seeks_new_lan.html" TargetMode="External"/><Relationship Id="rId2" Type="http://schemas.openxmlformats.org/officeDocument/2006/relationships/hyperlink" Target="http://www.oregonlive.com/pacific-northwest-news/index.ssf/2010/08/winds_push_central_oregon_wildfire_to_2650_acres_evacuations_encouraged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39000"/>
          </a:blip>
          <a:srcRect l="4673" t="20995" r="11675" b="19704"/>
          <a:stretch/>
        </p:blipFill>
        <p:spPr>
          <a:xfrm>
            <a:off x="4680" y="0"/>
            <a:ext cx="9128160" cy="676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741240"/>
            <a:ext cx="8686800" cy="607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You are an ace reporter at your high school newspaper who just got a big assignmen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Your editor sends you to the scene of the 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The cafeteri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02920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2240" y="5218200"/>
            <a:ext cx="534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4191120"/>
            <a:ext cx="7026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alphaModFix amt="39000"/>
          </a:blip>
          <a:srcRect l="4673" t="20995" r="11675" b="28969"/>
          <a:stretch/>
        </p:blipFill>
        <p:spPr>
          <a:xfrm>
            <a:off x="-12600" y="0"/>
            <a:ext cx="9232920" cy="6705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304920"/>
            <a:ext cx="8763120" cy="70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 the school cafeteria, where the votes for the school election have been tallied, one class president candidate is claiming that voter fraud has occur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Arial"/>
              </a:rPr>
              <a:t>What do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>
            <a:alphaModFix amt="39000"/>
          </a:blip>
          <a:srcRect l="17023" t="20995" r="11675" b="36356"/>
          <a:stretch/>
        </p:blipFill>
        <p:spPr>
          <a:xfrm>
            <a:off x="349200" y="228600"/>
            <a:ext cx="5670720" cy="5991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06396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6560" y="201600"/>
            <a:ext cx="4105440" cy="64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urvey th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do you s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details do you not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do you h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o is on scene you can talk t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fficials, witness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t should you ask? What details do you need to make sense of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686560" y="3197160"/>
            <a:ext cx="265104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alphaModFix amt="39000"/>
          </a:blip>
          <a:srcRect l="4673" t="20995" r="11675" b="28969"/>
          <a:stretch/>
        </p:blipFill>
        <p:spPr>
          <a:xfrm>
            <a:off x="0" y="-154080"/>
            <a:ext cx="9344160" cy="7166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8080"/>
                </a:solidFill>
                <a:latin typeface="Arial"/>
              </a:rPr>
              <a:t>The Five W’s, one 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281952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o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at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8080"/>
                </a:solidFill>
                <a:latin typeface="Arial"/>
              </a:rPr>
              <a:t>How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6450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39000"/>
          </a:blip>
          <a:srcRect l="4673" t="24395" r="17360" b="32362"/>
          <a:stretch/>
        </p:blipFill>
        <p:spPr>
          <a:xfrm>
            <a:off x="-76320" y="0"/>
            <a:ext cx="9372600" cy="7467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r accurate, unbiased report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58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Leave your opinion out of the story. Include only cited facts and details and quotes from sour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Sources must be identified in the article and quotes must be word for wo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n’t rely on one source. Talk to multiple people to get all sides of the s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Double check your facts. If you aren’t sure, call your source ba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real lif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egonlive.com/portland/index.ssf/2010/08/multnomah_county_seeks_new_la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regonlive.com/pacific-northwest-news/index.ssf/2010/08/winds_push_central_oregon_wildfire_to_2650_acres_evacuations_encouraged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Take a look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sources are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all sides repres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all the questions answered? Any holes? What else do you want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3:55:13Z</dcterms:created>
  <dc:creator> </dc:creator>
  <dc:description/>
  <dc:language>en-US</dc:language>
  <cp:lastModifiedBy> </cp:lastModifiedBy>
  <dcterms:modified xsi:type="dcterms:W3CDTF">2010-08-12T04:48:19Z</dcterms:modified>
  <cp:revision>14</cp:revision>
  <dc:subject/>
  <dc:title>You arrive on the scene</dc:title>
</cp:coreProperties>
</file>